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5.wmf" ContentType="image/x-wmf"/>
  <Override PartName="/ppt/media/image53.wmf" ContentType="image/x-wmf"/>
  <Override PartName="/ppt/media/image52.wmf" ContentType="image/x-wmf"/>
  <Override PartName="/ppt/media/image50.jpeg" ContentType="image/jpeg"/>
  <Override PartName="/ppt/media/image56.wmf" ContentType="image/x-wmf"/>
  <Override PartName="/ppt/media/image4.jpeg" ContentType="image/jpeg"/>
  <Override PartName="/ppt/media/image37.jpeg" ContentType="image/jpeg"/>
  <Override PartName="/ppt/media/image3.jpeg" ContentType="image/jpeg"/>
  <Override PartName="/ppt/media/image28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60.wmf" ContentType="image/x-wmf"/>
  <Override PartName="/ppt/media/image35.jpeg" ContentType="image/jpeg"/>
  <Override PartName="/ppt/media/image1.jpeg" ContentType="image/jpeg"/>
  <Override PartName="/ppt/media/image15.wmf" ContentType="image/x-wmf"/>
  <Override PartName="/ppt/media/image16.wmf" ContentType="image/x-wmf"/>
  <Override PartName="/ppt/media/image14.wmf" ContentType="image/x-wmf"/>
  <Override PartName="/ppt/media/image65.jpeg" ContentType="image/jpeg"/>
  <Override PartName="/ppt/media/image8.jpeg" ContentType="image/jpeg"/>
  <Override PartName="/ppt/media/image41.wmf" ContentType="image/x-wmf"/>
  <Override PartName="/ppt/media/image25.wmf" ContentType="image/x-wmf"/>
  <Override PartName="/ppt/media/image62.wmf" ContentType="image/x-wmf"/>
  <Override PartName="/ppt/media/image7.jpeg" ContentType="image/jpeg"/>
  <Override PartName="/ppt/media/image31.wmf" ContentType="image/x-wmf"/>
  <Override PartName="/ppt/media/image38.jpeg" ContentType="image/jpeg"/>
  <Override PartName="/ppt/media/image29.wmf" ContentType="image/x-wmf"/>
  <Override PartName="/ppt/media/image63.wmf" ContentType="image/x-wmf"/>
  <Override PartName="/ppt/media/image26.wmf" ContentType="image/x-wmf"/>
  <Override PartName="/ppt/media/image58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59.wmf" ContentType="image/x-wmf"/>
  <Override PartName="/ppt/media/image64.jpeg" ContentType="image/jpeg"/>
  <Override PartName="/ppt/media/image61.wmf" ContentType="image/x-wmf"/>
  <Override PartName="/ppt/media/image19.wmf" ContentType="image/x-wmf"/>
  <Override PartName="/ppt/media/image24.wmf" ContentType="image/x-wmf"/>
  <Override PartName="/ppt/media/image5.jpeg" ContentType="image/jpeg"/>
  <Override PartName="/ppt/media/image12.jpeg" ContentType="image/jpeg"/>
  <Override PartName="/ppt/media/image17.wmf" ContentType="image/x-wmf"/>
  <Override PartName="/ppt/media/image10.jpeg" ContentType="image/jpeg"/>
  <Override PartName="/ppt/media/image54.wmf" ContentType="image/x-wmf"/>
  <Override PartName="/ppt/media/image23.wmf" ContentType="image/x-wmf"/>
  <Override PartName="/ppt/media/image27.wmf" ContentType="image/x-wmf"/>
  <Override PartName="/ppt/media/image11.jpeg" ContentType="image/jpeg"/>
  <Override PartName="/ppt/media/image9.jpeg" ContentType="image/jpeg"/>
  <Override PartName="/ppt/media/image51.wmf" ContentType="image/x-wmf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9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6.wmf" ContentType="image/x-wmf"/>
  <Override PartName="/ppt/media/image48.jpeg" ContentType="image/jpeg"/>
  <Override PartName="/ppt/media/image13.jpeg" ContentType="image/jpeg"/>
  <Override PartName="/ppt/media/image47.wmf" ContentType="image/x-wmf"/>
  <Override PartName="/ppt/media/image49.jpeg" ContentType="image/jpeg"/>
  <Override PartName="/ppt/media/image4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F1A-D876-49F5-B07E-5AB09D66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486-F4BC-4320-B5F0-ACE5E0E6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B30-37B7-48FD-9317-D7E58B35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A3AF-C6BE-47B2-B588-ED43F769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DC9A-F813-41CF-B638-ECCA1049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CE5-45B3-44C1-97D7-639F40F4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6BE9-5BAB-47AC-9F97-8686FE60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557-269D-4276-B324-A5814196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55A-6F2F-423F-A8A3-59F3F5CE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9EE4-C7AB-4A19-BE04-6A707EA6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D50-3E8B-42FE-8E91-0EC64E0D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22A-DCDF-42EF-AD1E-310DF3ED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1939-37EB-4838-B36E-D80CA7F20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4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0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image" Target="../media/image22.wmf"/><Relationship Id="rId14" Type="http://schemas.openxmlformats.org/officeDocument/2006/relationships/image" Target="../media/image23.wmf"/><Relationship Id="rId15" Type="http://schemas.openxmlformats.org/officeDocument/2006/relationships/image" Target="../media/image24.wmf"/><Relationship Id="rId16" Type="http://schemas.openxmlformats.org/officeDocument/2006/relationships/image" Target="../media/image24.wmf"/><Relationship Id="rId17" Type="http://schemas.openxmlformats.org/officeDocument/2006/relationships/image" Target="../media/image15.wmf"/><Relationship Id="rId18" Type="http://schemas.openxmlformats.org/officeDocument/2006/relationships/image" Target="../media/image16.wmf"/><Relationship Id="rId19" Type="http://schemas.openxmlformats.org/officeDocument/2006/relationships/image" Target="../media/image25.wmf"/><Relationship Id="rId20" Type="http://schemas.openxmlformats.org/officeDocument/2006/relationships/image" Target="../media/image14.wmf"/><Relationship Id="rId21" Type="http://schemas.openxmlformats.org/officeDocument/2006/relationships/image" Target="../media/image19.wmf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1.wmf"/><Relationship Id="rId25" Type="http://schemas.openxmlformats.org/officeDocument/2006/relationships/image" Target="../media/image26.wmf"/><Relationship Id="rId26" Type="http://schemas.openxmlformats.org/officeDocument/2006/relationships/image" Target="../media/image14.wmf"/><Relationship Id="rId27" Type="http://schemas.openxmlformats.org/officeDocument/2006/relationships/image" Target="../media/image21.wmf"/><Relationship Id="rId2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26.wmf"/><Relationship Id="rId4" Type="http://schemas.openxmlformats.org/officeDocument/2006/relationships/image" Target="../media/image20.wmf"/><Relationship Id="rId5" Type="http://schemas.openxmlformats.org/officeDocument/2006/relationships/image" Target="../media/image24.wmf"/><Relationship Id="rId6" Type="http://schemas.openxmlformats.org/officeDocument/2006/relationships/image" Target="../media/image26.wmf"/><Relationship Id="rId7" Type="http://schemas.openxmlformats.org/officeDocument/2006/relationships/image" Target="../media/image20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image" Target="../media/image27.wmf"/><Relationship Id="rId13" Type="http://schemas.openxmlformats.org/officeDocument/2006/relationships/image" Target="../media/image28.wm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image" Target="../media/image27.wmf"/><Relationship Id="rId19" Type="http://schemas.openxmlformats.org/officeDocument/2006/relationships/image" Target="../media/image28.wmf"/><Relationship Id="rId20" Type="http://schemas.openxmlformats.org/officeDocument/2006/relationships/image" Target="../media/image29.wmf"/><Relationship Id="rId21" Type="http://schemas.openxmlformats.org/officeDocument/2006/relationships/image" Target="../media/image29.wmf"/><Relationship Id="rId22" Type="http://schemas.openxmlformats.org/officeDocument/2006/relationships/image" Target="../media/image30.wmf"/><Relationship Id="rId23" Type="http://schemas.openxmlformats.org/officeDocument/2006/relationships/image" Target="../media/image14.wmf"/><Relationship Id="rId24" Type="http://schemas.openxmlformats.org/officeDocument/2006/relationships/image" Target="../media/image26.wmf"/><Relationship Id="rId25" Type="http://schemas.openxmlformats.org/officeDocument/2006/relationships/image" Target="../media/image20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7.wmf"/><Relationship Id="rId29" Type="http://schemas.openxmlformats.org/officeDocument/2006/relationships/image" Target="../media/image28.wmf"/><Relationship Id="rId30" Type="http://schemas.openxmlformats.org/officeDocument/2006/relationships/image" Target="../media/image27.wmf"/><Relationship Id="rId31" Type="http://schemas.openxmlformats.org/officeDocument/2006/relationships/image" Target="../media/image28.wmf"/><Relationship Id="rId32" Type="http://schemas.openxmlformats.org/officeDocument/2006/relationships/image" Target="../media/image27.wmf"/><Relationship Id="rId33" Type="http://schemas.openxmlformats.org/officeDocument/2006/relationships/image" Target="../media/image28.wmf"/><Relationship Id="rId34" Type="http://schemas.openxmlformats.org/officeDocument/2006/relationships/image" Target="../media/image27.wmf"/><Relationship Id="rId35" Type="http://schemas.openxmlformats.org/officeDocument/2006/relationships/image" Target="../media/image28.wmf"/><Relationship Id="rId36" Type="http://schemas.openxmlformats.org/officeDocument/2006/relationships/image" Target="../media/image27.wmf"/><Relationship Id="rId37" Type="http://schemas.openxmlformats.org/officeDocument/2006/relationships/image" Target="../media/image28.wmf"/><Relationship Id="rId38" Type="http://schemas.openxmlformats.org/officeDocument/2006/relationships/image" Target="../media/image31.wmf"/><Relationship Id="rId39" Type="http://schemas.openxmlformats.org/officeDocument/2006/relationships/image" Target="../media/image20.wmf"/><Relationship Id="rId40" Type="http://schemas.openxmlformats.org/officeDocument/2006/relationships/image" Target="../media/image32.wmf"/><Relationship Id="rId41" Type="http://schemas.openxmlformats.org/officeDocument/2006/relationships/image" Target="../media/image29.wmf"/><Relationship Id="rId42" Type="http://schemas.openxmlformats.org/officeDocument/2006/relationships/image" Target="../media/image30.wmf"/><Relationship Id="rId43" Type="http://schemas.openxmlformats.org/officeDocument/2006/relationships/image" Target="../media/image14.wmf"/><Relationship Id="rId44" Type="http://schemas.openxmlformats.org/officeDocument/2006/relationships/image" Target="../media/image26.wmf"/><Relationship Id="rId45" Type="http://schemas.openxmlformats.org/officeDocument/2006/relationships/image" Target="../media/image20.wmf"/><Relationship Id="rId46" Type="http://schemas.openxmlformats.org/officeDocument/2006/relationships/image" Target="../media/image31.wmf"/><Relationship Id="rId47" Type="http://schemas.openxmlformats.org/officeDocument/2006/relationships/image" Target="../media/image32.wmf"/><Relationship Id="rId48" Type="http://schemas.openxmlformats.org/officeDocument/2006/relationships/image" Target="../media/image20.wmf"/><Relationship Id="rId49" Type="http://schemas.openxmlformats.org/officeDocument/2006/relationships/image" Target="../media/image32.wmf"/><Relationship Id="rId50" Type="http://schemas.openxmlformats.org/officeDocument/2006/relationships/image" Target="../media/image33.wmf"/><Relationship Id="rId51" Type="http://schemas.openxmlformats.org/officeDocument/2006/relationships/image" Target="../media/image34.wmf"/><Relationship Id="rId52" Type="http://schemas.openxmlformats.org/officeDocument/2006/relationships/image" Target="../media/image34.wmf"/><Relationship Id="rId53" Type="http://schemas.openxmlformats.org/officeDocument/2006/relationships/image" Target="../media/image34.wmf"/><Relationship Id="rId54" Type="http://schemas.openxmlformats.org/officeDocument/2006/relationships/image" Target="../media/image34.wmf"/><Relationship Id="rId55" Type="http://schemas.openxmlformats.org/officeDocument/2006/relationships/image" Target="../media/image34.wmf"/><Relationship Id="rId56" Type="http://schemas.openxmlformats.org/officeDocument/2006/relationships/image" Target="../media/image34.wmf"/><Relationship Id="rId57" Type="http://schemas.openxmlformats.org/officeDocument/2006/relationships/image" Target="../media/image34.wmf"/><Relationship Id="rId58" Type="http://schemas.openxmlformats.org/officeDocument/2006/relationships/image" Target="../media/image34.wmf"/><Relationship Id="rId59" Type="http://schemas.openxmlformats.org/officeDocument/2006/relationships/image" Target="../media/image34.wmf"/><Relationship Id="rId60" Type="http://schemas.openxmlformats.org/officeDocument/2006/relationships/image" Target="../media/image34.wmf"/><Relationship Id="rId61" Type="http://schemas.openxmlformats.org/officeDocument/2006/relationships/image" Target="../media/image34.wmf"/><Relationship Id="rId62" Type="http://schemas.openxmlformats.org/officeDocument/2006/relationships/image" Target="../media/image34.wmf"/><Relationship Id="rId63" Type="http://schemas.openxmlformats.org/officeDocument/2006/relationships/image" Target="../media/image34.wmf"/><Relationship Id="rId64" Type="http://schemas.openxmlformats.org/officeDocument/2006/relationships/image" Target="../media/image34.wmf"/><Relationship Id="rId65" Type="http://schemas.openxmlformats.org/officeDocument/2006/relationships/image" Target="../media/image34.wmf"/><Relationship Id="rId66" Type="http://schemas.openxmlformats.org/officeDocument/2006/relationships/image" Target="../media/image34.wmf"/><Relationship Id="rId67" Type="http://schemas.openxmlformats.org/officeDocument/2006/relationships/image" Target="../media/image34.wmf"/><Relationship Id="rId68" Type="http://schemas.openxmlformats.org/officeDocument/2006/relationships/image" Target="../media/image34.wmf"/><Relationship Id="rId69" Type="http://schemas.openxmlformats.org/officeDocument/2006/relationships/image" Target="../media/image34.wmf"/><Relationship Id="rId70" Type="http://schemas.openxmlformats.org/officeDocument/2006/relationships/image" Target="../media/image34.wmf"/><Relationship Id="rId71" Type="http://schemas.openxmlformats.org/officeDocument/2006/relationships/image" Target="../media/image34.wmf"/><Relationship Id="rId72" Type="http://schemas.openxmlformats.org/officeDocument/2006/relationships/image" Target="../media/image34.wmf"/><Relationship Id="rId73" Type="http://schemas.openxmlformats.org/officeDocument/2006/relationships/image" Target="../media/image34.wmf"/><Relationship Id="rId74" Type="http://schemas.openxmlformats.org/officeDocument/2006/relationships/image" Target="../media/image34.wmf"/><Relationship Id="rId75" Type="http://schemas.openxmlformats.org/officeDocument/2006/relationships/image" Target="../media/image34.wmf"/><Relationship Id="rId76" Type="http://schemas.openxmlformats.org/officeDocument/2006/relationships/image" Target="../media/image34.wmf"/><Relationship Id="rId77" Type="http://schemas.openxmlformats.org/officeDocument/2006/relationships/image" Target="../media/image34.wmf"/><Relationship Id="rId78" Type="http://schemas.openxmlformats.org/officeDocument/2006/relationships/image" Target="../media/image34.wmf"/><Relationship Id="rId79" Type="http://schemas.openxmlformats.org/officeDocument/2006/relationships/image" Target="../media/image34.wmf"/><Relationship Id="rId80" Type="http://schemas.openxmlformats.org/officeDocument/2006/relationships/image" Target="../media/image34.wmf"/><Relationship Id="rId81" Type="http://schemas.openxmlformats.org/officeDocument/2006/relationships/image" Target="../media/image34.wmf"/><Relationship Id="rId82" Type="http://schemas.openxmlformats.org/officeDocument/2006/relationships/image" Target="../media/image34.wmf"/><Relationship Id="rId83" Type="http://schemas.openxmlformats.org/officeDocument/2006/relationships/image" Target="../media/image34.wmf"/><Relationship Id="rId8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6179" b="0"/>
          <a:stretch/>
        </p:blipFill>
        <p:spPr>
          <a:xfrm>
            <a:off x="4016520" y="4911840"/>
            <a:ext cx="4038480" cy="19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ber - the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9240" y="1503360"/>
            <a:ext cx="39369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ber grows on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of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 sawn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bility of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ing and handling  ti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of timber i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d woo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6840" y="5349960"/>
            <a:ext cx="1781280" cy="1458720"/>
          </a:xfrm>
          <a:prstGeom prst="rect">
            <a:avLst/>
          </a:prstGeom>
          <a:ln w="9360">
            <a:solidFill>
              <a:srgbClr val="4d4d4d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874880" y="6296040"/>
            <a:ext cx="508140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rcRect l="19990" t="0" r="9296" b="2711"/>
          <a:stretch/>
        </p:blipFill>
        <p:spPr>
          <a:xfrm>
            <a:off x="155520" y="3111480"/>
            <a:ext cx="20592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0" r="6963" b="5085"/>
          <a:stretch/>
        </p:blipFill>
        <p:spPr>
          <a:xfrm>
            <a:off x="7184880" y="71280"/>
            <a:ext cx="1890720" cy="19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334200" y="3833640"/>
            <a:ext cx="2765520" cy="21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63360" y="136440"/>
            <a:ext cx="1843200" cy="277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5977080" y="1951200"/>
            <a:ext cx="2628720" cy="175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2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26960" y="1608120"/>
            <a:ext cx="22320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354" name=""/>
          <p:cNvGrpSpPr/>
          <p:nvPr/>
        </p:nvGrpSpPr>
        <p:grpSpPr>
          <a:xfrm>
            <a:off x="4587120" y="1733400"/>
            <a:ext cx="2899440" cy="2648880"/>
            <a:chOff x="4587120" y="1733400"/>
            <a:chExt cx="2899440" cy="2648880"/>
          </a:xfrm>
        </p:grpSpPr>
        <p:sp>
          <p:nvSpPr>
            <p:cNvPr id="355" name=""/>
            <p:cNvSpPr/>
            <p:nvPr/>
          </p:nvSpPr>
          <p:spPr>
            <a:xfrm>
              <a:off x="5029200" y="1733400"/>
              <a:ext cx="2457360" cy="14288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4587120" y="1901880"/>
              <a:ext cx="2777400" cy="2480400"/>
              <a:chOff x="4587120" y="1901880"/>
              <a:chExt cx="2777400" cy="2480400"/>
            </a:xfrm>
          </p:grpSpPr>
          <p:pic>
            <p:nvPicPr>
              <p:cNvPr id="3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2520" y="1901880"/>
                <a:ext cx="2232000" cy="22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"/>
              <p:cNvSpPr/>
              <p:nvPr/>
            </p:nvSpPr>
            <p:spPr>
              <a:xfrm rot="19164000">
                <a:off x="4552920" y="3619080"/>
                <a:ext cx="1314360" cy="381240"/>
              </a:xfrm>
              <a:prstGeom prst="rightArrow">
                <a:avLst>
                  <a:gd name="adj1" fmla="val 50000"/>
                  <a:gd name="adj2" fmla="val 8619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9" name=""/>
          <p:cNvSpPr/>
          <p:nvPr/>
        </p:nvSpPr>
        <p:spPr>
          <a:xfrm>
            <a:off x="1440" y="395604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-barked l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131560" y="3416040"/>
            <a:ext cx="3088080" cy="3444480"/>
            <a:chOff x="2131560" y="3416040"/>
            <a:chExt cx="3088080" cy="3444480"/>
          </a:xfrm>
        </p:grpSpPr>
        <p:sp>
          <p:nvSpPr>
            <p:cNvPr id="361" name=""/>
            <p:cNvSpPr/>
            <p:nvPr/>
          </p:nvSpPr>
          <p:spPr>
            <a:xfrm>
              <a:off x="2762280" y="4000680"/>
              <a:ext cx="2457360" cy="230472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131560" y="3416040"/>
              <a:ext cx="3034080" cy="3444480"/>
              <a:chOff x="2131560" y="3416040"/>
              <a:chExt cx="3034080" cy="3444480"/>
            </a:xfrm>
          </p:grpSpPr>
          <p:pic>
            <p:nvPicPr>
              <p:cNvPr id="3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97200" y="4005360"/>
                <a:ext cx="2368440" cy="22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211600">
                <a:off x="2114640" y="3772080"/>
                <a:ext cx="1314360" cy="380880"/>
              </a:xfrm>
              <a:prstGeom prst="rightArrow">
                <a:avLst>
                  <a:gd name="adj1" fmla="val 50000"/>
                  <a:gd name="adj2" fmla="val 86271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857680" y="6400800"/>
                <a:ext cx="109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plits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05280" y="5810400"/>
                <a:ext cx="571320" cy="857160"/>
              </a:xfrm>
              <a:custGeom>
                <a:avLst/>
                <a:gdLst/>
                <a:ahLst/>
                <a:rect l="l" t="t" r="r" b="b"/>
                <a:pathLst>
                  <a:path w="360" h="540">
                    <a:moveTo>
                      <a:pt x="0" y="540"/>
                    </a:moveTo>
                    <a:lnTo>
                      <a:pt x="360" y="540"/>
                    </a:lnTo>
                    <a:lnTo>
                      <a:pt x="312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 flipV="1">
                <a:off x="3619080" y="5638680"/>
                <a:ext cx="838440" cy="1028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6305400" y="2886480"/>
            <a:ext cx="2922480" cy="3726360"/>
            <a:chOff x="6305400" y="2886480"/>
            <a:chExt cx="2922480" cy="3726360"/>
          </a:xfrm>
        </p:grpSpPr>
        <p:sp>
          <p:nvSpPr>
            <p:cNvPr id="369" name=""/>
            <p:cNvSpPr/>
            <p:nvPr/>
          </p:nvSpPr>
          <p:spPr>
            <a:xfrm>
              <a:off x="6305400" y="4076640"/>
              <a:ext cx="2610000" cy="13143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6381720" y="2886480"/>
              <a:ext cx="2846160" cy="3726360"/>
              <a:chOff x="6381720" y="2886480"/>
              <a:chExt cx="2846160" cy="3726360"/>
            </a:xfrm>
          </p:grpSpPr>
          <p:sp>
            <p:nvSpPr>
              <p:cNvPr id="371" name=""/>
              <p:cNvSpPr/>
              <p:nvPr/>
            </p:nvSpPr>
            <p:spPr>
              <a:xfrm>
                <a:off x="7639200" y="5105520"/>
                <a:ext cx="838080" cy="857160"/>
              </a:xfrm>
              <a:custGeom>
                <a:avLst/>
                <a:gdLst/>
                <a:ahLst/>
                <a:rect l="l" t="t" r="r" b="b"/>
                <a:pathLst>
                  <a:path w="528" h="540">
                    <a:moveTo>
                      <a:pt x="240" y="540"/>
                    </a:moveTo>
                    <a:lnTo>
                      <a:pt x="0" y="540"/>
                    </a:lnTo>
                    <a:lnTo>
                      <a:pt x="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381720" y="4062240"/>
                <a:ext cx="2475000" cy="13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 rot="3896400">
                <a:off x="6838920" y="3371760"/>
                <a:ext cx="1314360" cy="380880"/>
              </a:xfrm>
              <a:prstGeom prst="rightArrow">
                <a:avLst>
                  <a:gd name="adj1" fmla="val 50000"/>
                  <a:gd name="adj2" fmla="val 86271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066080" y="6153120"/>
                <a:ext cx="207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Winged split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47440" y="5734080"/>
                <a:ext cx="118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Wings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67560" y="5086440"/>
                <a:ext cx="571320" cy="1276200"/>
              </a:xfrm>
              <a:custGeom>
                <a:avLst/>
                <a:gdLst/>
                <a:ahLst/>
                <a:rect l="l" t="t" r="r" b="b"/>
                <a:pathLst>
                  <a:path w="360" h="804">
                    <a:moveTo>
                      <a:pt x="240" y="804"/>
                    </a:moveTo>
                    <a:lnTo>
                      <a:pt x="0" y="804"/>
                    </a:lnTo>
                    <a:lnTo>
                      <a:pt x="360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 flipV="1">
                <a:off x="6705360" y="5048280"/>
                <a:ext cx="933480" cy="914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189720" y="5749920"/>
            <a:ext cx="2433240" cy="8254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s - p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n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716040" y="3257640"/>
            <a:ext cx="5780160" cy="2057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3 - green sa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wing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 sawn or quarter s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sing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more pieces in most popular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876240" y="3543480"/>
            <a:ext cx="1638360" cy="16380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678040" y="345924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637160" y="3479760"/>
            <a:ext cx="1697040" cy="1727280"/>
          </a:xfrm>
          <a:prstGeom prst="rect">
            <a:avLst/>
          </a:prstGeom>
          <a:ln w="0">
            <a:noFill/>
          </a:ln>
        </p:spPr>
      </p:pic>
      <p:grpSp>
        <p:nvGrpSpPr>
          <p:cNvPr id="385" name=""/>
          <p:cNvGrpSpPr/>
          <p:nvPr/>
        </p:nvGrpSpPr>
        <p:grpSpPr>
          <a:xfrm>
            <a:off x="96120" y="4552920"/>
            <a:ext cx="9047880" cy="2305080"/>
            <a:chOff x="96120" y="4552920"/>
            <a:chExt cx="9047880" cy="2305080"/>
          </a:xfrm>
        </p:grpSpPr>
        <p:sp>
          <p:nvSpPr>
            <p:cNvPr id="386" name=""/>
            <p:cNvSpPr/>
            <p:nvPr/>
          </p:nvSpPr>
          <p:spPr>
            <a:xfrm>
              <a:off x="96120" y="5749920"/>
              <a:ext cx="3007800" cy="45972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seasoned timb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91560" y="5749920"/>
              <a:ext cx="2990880" cy="82548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ock for season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milled produc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38920" y="4552920"/>
              <a:ext cx="2305080" cy="2305080"/>
            </a:xfrm>
            <a:prstGeom prst="irregularSeal2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urth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05400" y="5981760"/>
              <a:ext cx="1200240" cy="380880"/>
            </a:xfrm>
            <a:prstGeom prst="rightArrow">
              <a:avLst>
                <a:gd name="adj1" fmla="val 50000"/>
                <a:gd name="adj2" fmla="val 78781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sawing - Quarter sa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rings parallel to short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grain shows on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wearing surface for floors, furni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l face preferred for co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r width shrinkage on d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upping and warp than other c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uccessfully reconditio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419880" y="3105000"/>
            <a:ext cx="2571840" cy="2381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6599160" y="32162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197320" y="5029200"/>
            <a:ext cx="654120" cy="1825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6653160" y="184644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tructural ti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24520" y="4229280"/>
            <a:ext cx="2718000" cy="895320"/>
          </a:xfrm>
          <a:custGeom>
            <a:avLst/>
            <a:gdLst/>
            <a:ahLst/>
            <a:rect l="l" t="t" r="r" b="b"/>
            <a:pathLst>
              <a:path w="1712" h="564">
                <a:moveTo>
                  <a:pt x="1560" y="0"/>
                </a:moveTo>
                <a:cubicBezTo>
                  <a:pt x="1636" y="91"/>
                  <a:pt x="1712" y="182"/>
                  <a:pt x="1452" y="276"/>
                </a:cubicBezTo>
                <a:cubicBezTo>
                  <a:pt x="1192" y="370"/>
                  <a:pt x="596" y="467"/>
                  <a:pt x="0" y="56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-114480" y="5315040"/>
            <a:ext cx="6191280" cy="1657440"/>
            <a:chOff x="-114480" y="5315040"/>
            <a:chExt cx="6191280" cy="1657440"/>
          </a:xfrm>
        </p:grpSpPr>
        <p:sp>
          <p:nvSpPr>
            <p:cNvPr id="398" name=""/>
            <p:cNvSpPr/>
            <p:nvPr/>
          </p:nvSpPr>
          <p:spPr>
            <a:xfrm>
              <a:off x="-114480" y="5315040"/>
              <a:ext cx="2305080" cy="1657440"/>
            </a:xfrm>
            <a:prstGeom prst="irregularSeal2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seaso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05040" y="5886360"/>
              <a:ext cx="3371760" cy="685800"/>
            </a:xfrm>
            <a:prstGeom prst="rightArrow">
              <a:avLst>
                <a:gd name="adj1" fmla="val 50000"/>
                <a:gd name="adj2" fmla="val 122913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71520" y="6049800"/>
              <a:ext cx="36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 - on to further 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139760" y="4616280"/>
            <a:ext cx="777240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 s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iling on face more prone to spl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sawing - Back sa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parallel to long edge of pi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on more rapi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igure on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prone to splitting when na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 section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nots on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05440" y="1962000"/>
            <a:ext cx="2895840" cy="2381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9960" y="480060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tructural ti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6256440" y="20462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8575560" y="4851360"/>
            <a:ext cx="182520" cy="6984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 flipH="1" flipV="1">
            <a:off x="8004240" y="3314880"/>
            <a:ext cx="606240" cy="1581120"/>
          </a:xfrm>
          <a:custGeom>
            <a:avLst/>
            <a:gdLst/>
            <a:ahLst/>
            <a:rect l="l" t="t" r="r" b="b"/>
            <a:pathLst>
              <a:path w="698" h="1308">
                <a:moveTo>
                  <a:pt x="516" y="1308"/>
                </a:moveTo>
                <a:cubicBezTo>
                  <a:pt x="607" y="1201"/>
                  <a:pt x="698" y="1094"/>
                  <a:pt x="612" y="876"/>
                </a:cubicBezTo>
                <a:cubicBezTo>
                  <a:pt x="526" y="658"/>
                  <a:pt x="263" y="329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0" y="5200560"/>
            <a:ext cx="6191280" cy="1657440"/>
            <a:chOff x="0" y="5200560"/>
            <a:chExt cx="6191280" cy="1657440"/>
          </a:xfrm>
        </p:grpSpPr>
        <p:sp>
          <p:nvSpPr>
            <p:cNvPr id="410" name=""/>
            <p:cNvSpPr/>
            <p:nvPr/>
          </p:nvSpPr>
          <p:spPr>
            <a:xfrm>
              <a:off x="0" y="5200560"/>
              <a:ext cx="2305080" cy="1657440"/>
            </a:xfrm>
            <a:prstGeom prst="irregularSeal2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seaso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19520" y="5771880"/>
              <a:ext cx="3371760" cy="685800"/>
            </a:xfrm>
            <a:prstGeom prst="rightArrow">
              <a:avLst>
                <a:gd name="adj1" fmla="val 50000"/>
                <a:gd name="adj2" fmla="val 122913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86000" y="5935320"/>
              <a:ext cx="360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 - on to further proces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149480" y="4243320"/>
            <a:ext cx="777240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rink more across width when dr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likely to warp and 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psed timber more difficult to re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5 - Dry Mi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7840" y="1600200"/>
            <a:ext cx="77724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d, Planed, Profiled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gh-sawn and seasoned product passed though planer to pro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d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 su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cross sectional sh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021200" y="2351160"/>
            <a:ext cx="4960800" cy="1984320"/>
            <a:chOff x="4021200" y="2351160"/>
            <a:chExt cx="4960800" cy="1984320"/>
          </a:xfrm>
        </p:grpSpPr>
        <p:pic>
          <p:nvPicPr>
            <p:cNvPr id="417" name="" descr=""/>
            <p:cNvPicPr/>
            <p:nvPr/>
          </p:nvPicPr>
          <p:blipFill>
            <a:blip r:embed="rId1">
              <a:lum bright="30000"/>
            </a:blip>
            <a:srcRect l="0" t="1935" r="0" b="0"/>
            <a:stretch/>
          </p:blipFill>
          <p:spPr>
            <a:xfrm>
              <a:off x="6108840" y="2401920"/>
              <a:ext cx="2873160" cy="193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18" name="" descr=""/>
            <p:cNvPicPr/>
            <p:nvPr/>
          </p:nvPicPr>
          <p:blipFill>
            <a:blip r:embed="rId2">
              <a:lum bright="24000"/>
            </a:blip>
            <a:stretch/>
          </p:blipFill>
          <p:spPr>
            <a:xfrm>
              <a:off x="4021200" y="2351160"/>
              <a:ext cx="1838160" cy="12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4518000" y="2857680"/>
              <a:ext cx="722160" cy="475920"/>
            </a:xfrm>
            <a:prstGeom prst="ellipse">
              <a:avLst/>
            </a:prstGeom>
            <a:noFill/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38720" y="2962440"/>
              <a:ext cx="1685880" cy="203040"/>
            </a:xfrm>
            <a:custGeom>
              <a:avLst/>
              <a:gdLst/>
              <a:ahLst/>
              <a:rect l="l" t="t" r="r" b="b"/>
              <a:pathLst>
                <a:path w="535" h="250">
                  <a:moveTo>
                    <a:pt x="0" y="64"/>
                  </a:moveTo>
                  <a:cubicBezTo>
                    <a:pt x="114" y="32"/>
                    <a:pt x="228" y="0"/>
                    <a:pt x="317" y="31"/>
                  </a:cubicBezTo>
                  <a:cubicBezTo>
                    <a:pt x="406" y="62"/>
                    <a:pt x="470" y="156"/>
                    <a:pt x="535" y="250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179280" y="3949560"/>
            <a:ext cx="77724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 potential problem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lengths of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weakness eg spl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ance eg large kn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 eg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>
            <a:lum bright="6000"/>
          </a:blip>
          <a:srcRect l="3679" t="0" r="0" b="0"/>
          <a:stretch/>
        </p:blipFill>
        <p:spPr>
          <a:xfrm>
            <a:off x="4792680" y="3830760"/>
            <a:ext cx="2327400" cy="287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ber Grows on Tre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1480" y="154296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of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wing logs to give ti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28680" y="5753160"/>
            <a:ext cx="3297240" cy="849240"/>
            <a:chOff x="328680" y="5753160"/>
            <a:chExt cx="3297240" cy="84924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328680" y="5753160"/>
              <a:ext cx="856080" cy="849240"/>
            </a:xfrm>
            <a:prstGeom prst="rect">
              <a:avLst/>
            </a:prstGeom>
            <a:ln w="9360">
              <a:solidFill>
                <a:srgbClr val="4d4d4d"/>
              </a:solidFill>
              <a:miter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1183320" y="6303960"/>
              <a:ext cx="2442600" cy="29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" name="" descr=""/>
          <p:cNvPicPr/>
          <p:nvPr/>
        </p:nvPicPr>
        <p:blipFill>
          <a:blip r:embed="rId3"/>
          <a:srcRect l="0" t="24637" r="0" b="0"/>
          <a:stretch/>
        </p:blipFill>
        <p:spPr>
          <a:xfrm>
            <a:off x="5151600" y="1584360"/>
            <a:ext cx="380988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>
            <a:lum bright="12000"/>
          </a:blip>
          <a:srcRect l="4274" t="21039" r="26420" b="0"/>
          <a:stretch/>
        </p:blipFill>
        <p:spPr>
          <a:xfrm>
            <a:off x="6645240" y="4800600"/>
            <a:ext cx="2498760" cy="18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056280" y="3660840"/>
            <a:ext cx="2922480" cy="8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3675240" y="5041800"/>
            <a:ext cx="2643120" cy="176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551480" y="3755880"/>
            <a:ext cx="2163600" cy="148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3840" y="762120"/>
            <a:ext cx="3201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042920" y="1193760"/>
            <a:ext cx="8101080" cy="5664240"/>
            <a:chOff x="1042920" y="1193760"/>
            <a:chExt cx="8101080" cy="5664240"/>
          </a:xfrm>
        </p:grpSpPr>
        <p:sp>
          <p:nvSpPr>
            <p:cNvPr id="63" name=""/>
            <p:cNvSpPr/>
            <p:nvPr/>
          </p:nvSpPr>
          <p:spPr>
            <a:xfrm>
              <a:off x="1042920" y="1193760"/>
              <a:ext cx="810108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059440" y="1417680"/>
              <a:ext cx="4021200" cy="32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4276800" y="3241800"/>
              <a:ext cx="125244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1976400" y="4000680"/>
              <a:ext cx="100008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979880" y="4284720"/>
              <a:ext cx="3357720" cy="16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1363680" y="1274760"/>
              <a:ext cx="3786120" cy="488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3300480" y="2232000"/>
              <a:ext cx="4021200" cy="327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3171960" y="3503520"/>
              <a:ext cx="3570120" cy="30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6435720" y="3662280"/>
              <a:ext cx="1711440" cy="23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9"/>
            <a:stretch/>
          </p:blipFill>
          <p:spPr>
            <a:xfrm>
              <a:off x="4813200" y="3397320"/>
              <a:ext cx="2706840" cy="31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10"/>
            <a:stretch/>
          </p:blipFill>
          <p:spPr>
            <a:xfrm>
              <a:off x="3639960" y="4162320"/>
              <a:ext cx="1711440" cy="23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11"/>
            <a:stretch/>
          </p:blipFill>
          <p:spPr>
            <a:xfrm>
              <a:off x="1190520" y="2997360"/>
              <a:ext cx="1711440" cy="23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12"/>
            <a:stretch/>
          </p:blipFill>
          <p:spPr>
            <a:xfrm>
              <a:off x="1455840" y="3584520"/>
              <a:ext cx="2598480" cy="304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2455920" y="2143080"/>
            <a:ext cx="3036960" cy="4390920"/>
            <a:chOff x="2455920" y="2143080"/>
            <a:chExt cx="3036960" cy="4390920"/>
          </a:xfrm>
        </p:grpSpPr>
        <p:sp>
          <p:nvSpPr>
            <p:cNvPr id="77" name=""/>
            <p:cNvSpPr/>
            <p:nvPr/>
          </p:nvSpPr>
          <p:spPr>
            <a:xfrm>
              <a:off x="4238640" y="3654360"/>
              <a:ext cx="1254240" cy="287964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55920" y="2143080"/>
              <a:ext cx="1495440" cy="40892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193760" y="1465200"/>
            <a:ext cx="7950240" cy="3882600"/>
            <a:chOff x="1193760" y="1465200"/>
            <a:chExt cx="7950240" cy="3882600"/>
          </a:xfrm>
        </p:grpSpPr>
        <p:sp>
          <p:nvSpPr>
            <p:cNvPr id="80" name=""/>
            <p:cNvSpPr/>
            <p:nvPr/>
          </p:nvSpPr>
          <p:spPr>
            <a:xfrm rot="1190400">
              <a:off x="7507080" y="3865680"/>
              <a:ext cx="457200" cy="1447560"/>
            </a:xfrm>
            <a:prstGeom prst="upArrow">
              <a:avLst>
                <a:gd name="adj1" fmla="val 50000"/>
                <a:gd name="adj2" fmla="val 79154"/>
              </a:avLst>
            </a:prstGeom>
            <a:solidFill>
              <a:srgbClr val="ffff66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281400" y="1465200"/>
              <a:ext cx="3848040" cy="1591560"/>
              <a:chOff x="3281400" y="1465200"/>
              <a:chExt cx="3848040" cy="1591560"/>
            </a:xfrm>
          </p:grpSpPr>
          <p:sp>
            <p:nvSpPr>
              <p:cNvPr id="82" name=""/>
              <p:cNvSpPr/>
              <p:nvPr/>
            </p:nvSpPr>
            <p:spPr>
              <a:xfrm rot="19243800">
                <a:off x="4272120" y="1922040"/>
                <a:ext cx="380880" cy="1143000"/>
              </a:xfrm>
              <a:prstGeom prst="downArrow">
                <a:avLst>
                  <a:gd name="adj1" fmla="val 50000"/>
                  <a:gd name="adj2" fmla="val 75024"/>
                </a:avLst>
              </a:prstGeom>
              <a:solidFill>
                <a:srgbClr val="ffff66"/>
              </a:solidFill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666000">
                <a:off x="6100560" y="1922400"/>
                <a:ext cx="380880" cy="1067040"/>
              </a:xfrm>
              <a:prstGeom prst="downArrow">
                <a:avLst>
                  <a:gd name="adj1" fmla="val 50000"/>
                  <a:gd name="adj2" fmla="val 70038"/>
                </a:avLst>
              </a:prstGeom>
              <a:solidFill>
                <a:srgbClr val="ffff66"/>
              </a:solidFill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281400" y="146520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291360" y="201780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O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6629400" y="3083040"/>
              <a:ext cx="2514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emitted as rotting occu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9283400">
              <a:off x="1595520" y="3246120"/>
              <a:ext cx="457200" cy="1447920"/>
            </a:xfrm>
            <a:prstGeom prst="upArrow">
              <a:avLst>
                <a:gd name="adj1" fmla="val 50000"/>
                <a:gd name="adj2" fmla="val 79173"/>
              </a:avLst>
            </a:prstGeom>
            <a:solidFill>
              <a:srgbClr val="ffff66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59080" y="3238560"/>
              <a:ext cx="91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042920" y="244440"/>
            <a:ext cx="8101080" cy="6613560"/>
            <a:chOff x="1042920" y="244440"/>
            <a:chExt cx="8101080" cy="6613560"/>
          </a:xfrm>
        </p:grpSpPr>
        <p:sp>
          <p:nvSpPr>
            <p:cNvPr id="90" name=""/>
            <p:cNvSpPr/>
            <p:nvPr/>
          </p:nvSpPr>
          <p:spPr>
            <a:xfrm>
              <a:off x="1042920" y="1193760"/>
              <a:ext cx="810108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3"/>
            <a:stretch/>
          </p:blipFill>
          <p:spPr>
            <a:xfrm>
              <a:off x="5383080" y="4618080"/>
              <a:ext cx="1266840" cy="103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14"/>
            <a:stretch/>
          </p:blipFill>
          <p:spPr>
            <a:xfrm>
              <a:off x="1308240" y="2286000"/>
              <a:ext cx="2695320" cy="39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15"/>
            <a:stretch/>
          </p:blipFill>
          <p:spPr>
            <a:xfrm>
              <a:off x="4535640" y="244440"/>
              <a:ext cx="3430440" cy="446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16"/>
            <a:srcRect l="0" t="0" r="22999" b="0"/>
            <a:stretch/>
          </p:blipFill>
          <p:spPr>
            <a:xfrm>
              <a:off x="6502320" y="487440"/>
              <a:ext cx="2641680" cy="44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17"/>
            <a:stretch/>
          </p:blipFill>
          <p:spPr>
            <a:xfrm>
              <a:off x="4276800" y="3241800"/>
              <a:ext cx="1252440" cy="16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18"/>
            <a:stretch/>
          </p:blipFill>
          <p:spPr>
            <a:xfrm>
              <a:off x="1976400" y="4000680"/>
              <a:ext cx="100008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9"/>
            <a:stretch/>
          </p:blipFill>
          <p:spPr>
            <a:xfrm>
              <a:off x="4834080" y="3594240"/>
              <a:ext cx="1736640" cy="107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0"/>
            <a:stretch/>
          </p:blipFill>
          <p:spPr>
            <a:xfrm>
              <a:off x="3300480" y="1203480"/>
              <a:ext cx="4021200" cy="430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1"/>
            <a:stretch/>
          </p:blipFill>
          <p:spPr>
            <a:xfrm>
              <a:off x="3171960" y="2400480"/>
              <a:ext cx="3570120" cy="41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2"/>
            <a:stretch/>
          </p:blipFill>
          <p:spPr>
            <a:xfrm>
              <a:off x="7162920" y="3209760"/>
              <a:ext cx="1711080" cy="23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3"/>
            <a:stretch/>
          </p:blipFill>
          <p:spPr>
            <a:xfrm>
              <a:off x="5527800" y="2717640"/>
              <a:ext cx="2841480" cy="332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4"/>
            <a:stretch/>
          </p:blipFill>
          <p:spPr>
            <a:xfrm>
              <a:off x="4813200" y="3397320"/>
              <a:ext cx="2706840" cy="31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5"/>
            <a:stretch/>
          </p:blipFill>
          <p:spPr>
            <a:xfrm>
              <a:off x="3381480" y="3282840"/>
              <a:ext cx="2232000" cy="312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6"/>
            <a:stretch/>
          </p:blipFill>
          <p:spPr>
            <a:xfrm>
              <a:off x="1058760" y="2098800"/>
              <a:ext cx="1900440" cy="330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7"/>
            <a:stretch/>
          </p:blipFill>
          <p:spPr>
            <a:xfrm>
              <a:off x="1455840" y="2979720"/>
              <a:ext cx="2598480" cy="364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2487600" y="2238480"/>
            <a:ext cx="3036960" cy="4390920"/>
            <a:chOff x="2487600" y="2238480"/>
            <a:chExt cx="3036960" cy="4390920"/>
          </a:xfrm>
        </p:grpSpPr>
        <p:sp>
          <p:nvSpPr>
            <p:cNvPr id="107" name=""/>
            <p:cNvSpPr/>
            <p:nvPr/>
          </p:nvSpPr>
          <p:spPr>
            <a:xfrm>
              <a:off x="4270320" y="2948040"/>
              <a:ext cx="1254240" cy="36813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7600" y="2238480"/>
              <a:ext cx="1495440" cy="40892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109520" y="1238400"/>
            <a:ext cx="7837560" cy="5445360"/>
            <a:chOff x="1109520" y="1238400"/>
            <a:chExt cx="7837560" cy="5445360"/>
          </a:xfrm>
        </p:grpSpPr>
        <p:sp>
          <p:nvSpPr>
            <p:cNvPr id="110" name=""/>
            <p:cNvSpPr/>
            <p:nvPr/>
          </p:nvSpPr>
          <p:spPr>
            <a:xfrm>
              <a:off x="1109520" y="1238400"/>
              <a:ext cx="2514600" cy="1191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arge trees die by losing leaves then falling ov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221000" y="1353960"/>
              <a:ext cx="3353040" cy="1820160"/>
              <a:chOff x="4221000" y="1353960"/>
              <a:chExt cx="3353040" cy="1820160"/>
            </a:xfrm>
          </p:grpSpPr>
          <p:sp>
            <p:nvSpPr>
              <p:cNvPr id="112" name=""/>
              <p:cNvSpPr/>
              <p:nvPr/>
            </p:nvSpPr>
            <p:spPr>
              <a:xfrm rot="19243800">
                <a:off x="5211720" y="2039400"/>
                <a:ext cx="380880" cy="1143000"/>
              </a:xfrm>
              <a:prstGeom prst="downArrow">
                <a:avLst>
                  <a:gd name="adj1" fmla="val 50000"/>
                  <a:gd name="adj2" fmla="val 75024"/>
                </a:avLst>
              </a:prstGeom>
              <a:solidFill>
                <a:srgbClr val="ffff66"/>
              </a:solidFill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666000">
                <a:off x="7040160" y="2039760"/>
                <a:ext cx="380880" cy="1067040"/>
              </a:xfrm>
              <a:prstGeom prst="downArrow">
                <a:avLst>
                  <a:gd name="adj1" fmla="val 50000"/>
                  <a:gd name="adj2" fmla="val 70038"/>
                </a:avLst>
              </a:prstGeom>
              <a:solidFill>
                <a:srgbClr val="ffff66"/>
              </a:solidFill>
              <a:ln w="1260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21000" y="1582560"/>
                <a:ext cx="838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be0e3"/>
                    </a:solidFill>
                    <a:latin typeface="Arial"/>
                  </a:rPr>
                  <a:t>CO</a:t>
                </a:r>
                <a:r>
                  <a:rPr b="0" lang="en-US" sz="2400" spc="-1" strike="noStrike" baseline="-25000">
                    <a:solidFill>
                      <a:srgbClr val="bbe0e3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35600" y="1353960"/>
                <a:ext cx="838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bbe0e3"/>
                    </a:solidFill>
                    <a:latin typeface="Arial"/>
                  </a:rPr>
                  <a:t>CO</a:t>
                </a:r>
                <a:r>
                  <a:rPr b="0" lang="en-US" sz="2400" spc="-1" strike="noStrike" baseline="-25000">
                    <a:solidFill>
                      <a:srgbClr val="bbe0e3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20046000">
              <a:off x="2263320" y="2771280"/>
              <a:ext cx="457200" cy="1447920"/>
            </a:xfrm>
            <a:prstGeom prst="upArrow">
              <a:avLst>
                <a:gd name="adj1" fmla="val 50000"/>
                <a:gd name="adj2" fmla="val 79173"/>
              </a:avLst>
            </a:prstGeom>
            <a:solidFill>
              <a:srgbClr val="ffff66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174800">
              <a:off x="6179760" y="3617640"/>
              <a:ext cx="457200" cy="1447560"/>
            </a:xfrm>
            <a:prstGeom prst="upArrow">
              <a:avLst>
                <a:gd name="adj1" fmla="val 50000"/>
                <a:gd name="adj2" fmla="val 79154"/>
              </a:avLst>
            </a:prstGeom>
            <a:solidFill>
              <a:srgbClr val="ffff66"/>
            </a:solid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32480" y="5442120"/>
              <a:ext cx="2514600" cy="124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trees absorb lots of 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990720" y="793800"/>
            <a:ext cx="38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touched/native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93680" y="5567400"/>
            <a:ext cx="5334120" cy="1169280"/>
          </a:xfrm>
          <a:prstGeom prst="rect">
            <a:avLst/>
          </a:prstGeom>
          <a:solidFill>
            <a:srgbClr val="99cc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long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in ~ carbon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484960" y="838080"/>
            <a:ext cx="3201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93840" y="838080"/>
            <a:ext cx="3201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73160" y="1193760"/>
            <a:ext cx="7893000" cy="5664240"/>
            <a:chOff x="1073160" y="1193760"/>
            <a:chExt cx="7893000" cy="5664240"/>
          </a:xfrm>
        </p:grpSpPr>
        <p:sp>
          <p:nvSpPr>
            <p:cNvPr id="124" name=""/>
            <p:cNvSpPr/>
            <p:nvPr/>
          </p:nvSpPr>
          <p:spPr>
            <a:xfrm>
              <a:off x="1073160" y="1193760"/>
              <a:ext cx="373392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00560" y="1193760"/>
              <a:ext cx="373392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1792440" y="2084400"/>
              <a:ext cx="3008160" cy="24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459080" y="3095640"/>
              <a:ext cx="3008160" cy="24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1173240" y="2949480"/>
              <a:ext cx="2232000" cy="28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2014560" y="4114800"/>
              <a:ext cx="10461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5"/>
            <a:stretch/>
          </p:blipFill>
          <p:spPr>
            <a:xfrm>
              <a:off x="1106640" y="2206800"/>
              <a:ext cx="3006720" cy="39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6"/>
            <a:stretch/>
          </p:blipFill>
          <p:spPr>
            <a:xfrm>
              <a:off x="2487600" y="3054240"/>
              <a:ext cx="2232000" cy="28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7"/>
            <a:stretch/>
          </p:blipFill>
          <p:spPr>
            <a:xfrm>
              <a:off x="3389400" y="4392720"/>
              <a:ext cx="1243080" cy="1670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6545160" y="2525760"/>
              <a:ext cx="2421000" cy="2545920"/>
              <a:chOff x="6545160" y="2525760"/>
              <a:chExt cx="2421000" cy="2545920"/>
            </a:xfrm>
          </p:grpSpPr>
          <p:pic>
            <p:nvPicPr>
              <p:cNvPr id="13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45160" y="2525760"/>
                <a:ext cx="662040" cy="156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856200" y="2542320"/>
                <a:ext cx="947880" cy="186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91240" y="2831400"/>
                <a:ext cx="774720" cy="183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81840" y="2937960"/>
                <a:ext cx="1084320" cy="2133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8" name=""/>
            <p:cNvGrpSpPr/>
            <p:nvPr/>
          </p:nvGrpSpPr>
          <p:grpSpPr>
            <a:xfrm>
              <a:off x="5902200" y="2825640"/>
              <a:ext cx="2421000" cy="2682720"/>
              <a:chOff x="5902200" y="2825640"/>
              <a:chExt cx="2421000" cy="2682720"/>
            </a:xfrm>
          </p:grpSpPr>
          <p:pic>
            <p:nvPicPr>
              <p:cNvPr id="13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02200" y="2825640"/>
                <a:ext cx="662040" cy="165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3240" y="2843280"/>
                <a:ext cx="947880" cy="196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48280" y="3147840"/>
                <a:ext cx="774720" cy="19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238880" y="3260160"/>
                <a:ext cx="1084320" cy="2248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"/>
            <p:cNvGrpSpPr/>
            <p:nvPr/>
          </p:nvGrpSpPr>
          <p:grpSpPr>
            <a:xfrm>
              <a:off x="5259240" y="3262320"/>
              <a:ext cx="2421000" cy="2879640"/>
              <a:chOff x="5259240" y="3262320"/>
              <a:chExt cx="2421000" cy="287964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259240" y="3262320"/>
                <a:ext cx="662040" cy="177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570280" y="3281400"/>
                <a:ext cx="947880" cy="210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205320" y="3608280"/>
                <a:ext cx="774720" cy="207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595920" y="3728880"/>
                <a:ext cx="1084320" cy="2413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8" name=""/>
            <p:cNvSpPr/>
            <p:nvPr/>
          </p:nvSpPr>
          <p:spPr>
            <a:xfrm>
              <a:off x="5833080" y="6172200"/>
              <a:ext cx="263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trees plan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45440" y="61722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tre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138320" y="781200"/>
            <a:ext cx="36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aged Native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24320" y="797040"/>
            <a:ext cx="36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331280" y="1328760"/>
            <a:ext cx="6823800" cy="1471680"/>
            <a:chOff x="1331280" y="1328760"/>
            <a:chExt cx="6823800" cy="1471680"/>
          </a:xfrm>
        </p:grpSpPr>
        <p:sp>
          <p:nvSpPr>
            <p:cNvPr id="153" name=""/>
            <p:cNvSpPr/>
            <p:nvPr/>
          </p:nvSpPr>
          <p:spPr>
            <a:xfrm>
              <a:off x="2434320" y="170964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20920" y="132876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347200">
              <a:off x="1544400" y="1404720"/>
              <a:ext cx="533160" cy="1295280"/>
            </a:xfrm>
            <a:prstGeom prst="downArrow">
              <a:avLst>
                <a:gd name="adj1" fmla="val 50000"/>
                <a:gd name="adj2" fmla="val 60736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34600" y="17575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21560" y="137628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347200">
              <a:off x="5944680" y="145224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074600" y="1135080"/>
            <a:ext cx="7893360" cy="5722920"/>
            <a:chOff x="1074600" y="1135080"/>
            <a:chExt cx="7893360" cy="5722920"/>
          </a:xfrm>
        </p:grpSpPr>
        <p:sp>
          <p:nvSpPr>
            <p:cNvPr id="160" name=""/>
            <p:cNvSpPr/>
            <p:nvPr/>
          </p:nvSpPr>
          <p:spPr>
            <a:xfrm>
              <a:off x="1074600" y="1193760"/>
              <a:ext cx="373392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2360" y="1193760"/>
              <a:ext cx="373356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076400" y="1135080"/>
              <a:ext cx="7891560" cy="5722920"/>
              <a:chOff x="1076400" y="1135080"/>
              <a:chExt cx="7891560" cy="5722920"/>
            </a:xfrm>
          </p:grpSpPr>
          <p:pic>
            <p:nvPicPr>
              <p:cNvPr id="163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1417680" y="1390680"/>
                <a:ext cx="2536920" cy="32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21"/>
              <a:srcRect l="0" t="0" r="22093" b="0"/>
              <a:stretch/>
            </p:blipFill>
            <p:spPr>
              <a:xfrm>
                <a:off x="2809800" y="1693800"/>
                <a:ext cx="1976400" cy="329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22"/>
              <a:srcRect l="9880" t="0" r="4977" b="0"/>
              <a:stretch/>
            </p:blipFill>
            <p:spPr>
              <a:xfrm>
                <a:off x="1108080" y="2577960"/>
                <a:ext cx="3638520" cy="348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1460520" y="3095640"/>
                <a:ext cx="3008160" cy="245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489040" y="3054240"/>
                <a:ext cx="2232360" cy="283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3390840" y="3591000"/>
                <a:ext cx="1243080" cy="2471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9" name=""/>
              <p:cNvGrpSpPr/>
              <p:nvPr/>
            </p:nvGrpSpPr>
            <p:grpSpPr>
              <a:xfrm>
                <a:off x="6546960" y="1135080"/>
                <a:ext cx="2421000" cy="3936240"/>
                <a:chOff x="6546960" y="1135080"/>
                <a:chExt cx="2421000" cy="3936240"/>
              </a:xfrm>
            </p:grpSpPr>
            <p:pic>
              <p:nvPicPr>
                <p:cNvPr id="17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6546960" y="1135080"/>
                  <a:ext cx="662040" cy="2424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6858000" y="1161000"/>
                  <a:ext cx="947880" cy="2883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493040" y="1607760"/>
                  <a:ext cx="774720" cy="2836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883640" y="1772640"/>
                  <a:ext cx="1084320" cy="3298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4" name=""/>
              <p:cNvGrpSpPr/>
              <p:nvPr/>
            </p:nvGrpSpPr>
            <p:grpSpPr>
              <a:xfrm>
                <a:off x="5904000" y="1238400"/>
                <a:ext cx="2421000" cy="4269600"/>
                <a:chOff x="5904000" y="1238400"/>
                <a:chExt cx="2421000" cy="4269600"/>
              </a:xfrm>
            </p:grpSpPr>
            <p:pic>
              <p:nvPicPr>
                <p:cNvPr id="175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5904000" y="1238400"/>
                  <a:ext cx="662040" cy="262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6215040" y="1266480"/>
                  <a:ext cx="947880" cy="3128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6850080" y="1751400"/>
                  <a:ext cx="774720" cy="307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7240680" y="1929960"/>
                  <a:ext cx="1084320" cy="357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9" name=""/>
              <p:cNvGrpSpPr/>
              <p:nvPr/>
            </p:nvGrpSpPr>
            <p:grpSpPr>
              <a:xfrm>
                <a:off x="5261040" y="1901880"/>
                <a:ext cx="2421000" cy="4239720"/>
                <a:chOff x="5261040" y="1901880"/>
                <a:chExt cx="2421000" cy="4239720"/>
              </a:xfrm>
            </p:grpSpPr>
            <p:pic>
              <p:nvPicPr>
                <p:cNvPr id="180" name="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5261040" y="1901880"/>
                  <a:ext cx="662040" cy="2610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5572080" y="1929960"/>
                  <a:ext cx="947880" cy="310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6207120" y="2410920"/>
                  <a:ext cx="774720" cy="3054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6597720" y="2588760"/>
                  <a:ext cx="1084320" cy="355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8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076400" y="5245200"/>
                <a:ext cx="1639800" cy="161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168560" y="4554360"/>
                <a:ext cx="1046160" cy="1405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1900080" y="3457440"/>
                <a:ext cx="1808280" cy="2297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7" name=""/>
          <p:cNvGrpSpPr/>
          <p:nvPr/>
        </p:nvGrpSpPr>
        <p:grpSpPr>
          <a:xfrm>
            <a:off x="957960" y="1298520"/>
            <a:ext cx="7981200" cy="5380200"/>
            <a:chOff x="957960" y="1298520"/>
            <a:chExt cx="7981200" cy="5380200"/>
          </a:xfrm>
        </p:grpSpPr>
        <p:sp>
          <p:nvSpPr>
            <p:cNvPr id="188" name=""/>
            <p:cNvSpPr/>
            <p:nvPr/>
          </p:nvSpPr>
          <p:spPr>
            <a:xfrm>
              <a:off x="6118920" y="61722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owing tre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36760" y="5853240"/>
              <a:ext cx="316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vesting trees removes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76920" y="16794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63880" y="129852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347200">
              <a:off x="1287000" y="137448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792600">
              <a:off x="4030560" y="137448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10880" y="1801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97840" y="1420920"/>
              <a:ext cx="533160" cy="1295280"/>
            </a:xfrm>
            <a:prstGeom prst="downArrow">
              <a:avLst>
                <a:gd name="adj1" fmla="val 50000"/>
                <a:gd name="adj2" fmla="val 60736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0347200">
              <a:off x="5520960" y="149652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792600">
              <a:off x="8264520" y="149652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2720400">
              <a:off x="1339200" y="516852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20600" y="1163520"/>
            <a:ext cx="7901280" cy="5694480"/>
            <a:chOff x="1020600" y="1163520"/>
            <a:chExt cx="7901280" cy="5694480"/>
          </a:xfrm>
        </p:grpSpPr>
        <p:sp>
          <p:nvSpPr>
            <p:cNvPr id="200" name=""/>
            <p:cNvSpPr/>
            <p:nvPr/>
          </p:nvSpPr>
          <p:spPr>
            <a:xfrm>
              <a:off x="1060560" y="1193760"/>
              <a:ext cx="373356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187960" y="1193760"/>
              <a:ext cx="3733920" cy="566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" descr=""/>
            <p:cNvPicPr/>
            <p:nvPr/>
          </p:nvPicPr>
          <p:blipFill>
            <a:blip r:embed="rId41"/>
            <a:stretch/>
          </p:blipFill>
          <p:spPr>
            <a:xfrm>
              <a:off x="1403280" y="1163520"/>
              <a:ext cx="2711520" cy="352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42"/>
            <a:srcRect l="9880" t="0" r="4977" b="0"/>
            <a:stretch/>
          </p:blipFill>
          <p:spPr>
            <a:xfrm>
              <a:off x="1093680" y="1746360"/>
              <a:ext cx="3638520" cy="43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43"/>
            <a:stretch/>
          </p:blipFill>
          <p:spPr>
            <a:xfrm>
              <a:off x="1446120" y="3095640"/>
              <a:ext cx="3008520" cy="24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44"/>
            <a:stretch/>
          </p:blipFill>
          <p:spPr>
            <a:xfrm>
              <a:off x="2475000" y="3054240"/>
              <a:ext cx="2232000" cy="28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45"/>
            <a:stretch/>
          </p:blipFill>
          <p:spPr>
            <a:xfrm>
              <a:off x="3376440" y="3591000"/>
              <a:ext cx="1243080" cy="24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46"/>
            <a:stretch/>
          </p:blipFill>
          <p:spPr>
            <a:xfrm>
              <a:off x="1954080" y="5245200"/>
              <a:ext cx="1640160" cy="16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7"/>
            <a:stretch/>
          </p:blipFill>
          <p:spPr>
            <a:xfrm>
              <a:off x="1020600" y="4130640"/>
              <a:ext cx="1435320" cy="18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48"/>
            <a:stretch/>
          </p:blipFill>
          <p:spPr>
            <a:xfrm>
              <a:off x="1940040" y="4448160"/>
              <a:ext cx="10461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9"/>
            <a:stretch/>
          </p:blipFill>
          <p:spPr>
            <a:xfrm>
              <a:off x="2006640" y="3260880"/>
              <a:ext cx="1808280" cy="25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50"/>
            <a:stretch/>
          </p:blipFill>
          <p:spPr>
            <a:xfrm>
              <a:off x="5554800" y="5249880"/>
              <a:ext cx="1547640" cy="115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51"/>
            <a:stretch/>
          </p:blipFill>
          <p:spPr>
            <a:xfrm>
              <a:off x="5533920" y="39211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52"/>
            <a:stretch/>
          </p:blipFill>
          <p:spPr>
            <a:xfrm>
              <a:off x="5883120" y="4179960"/>
              <a:ext cx="2257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53"/>
            <a:stretch/>
          </p:blipFill>
          <p:spPr>
            <a:xfrm>
              <a:off x="6232680" y="443880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54"/>
            <a:stretch/>
          </p:blipFill>
          <p:spPr>
            <a:xfrm>
              <a:off x="6581880" y="469728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55"/>
            <a:stretch/>
          </p:blipFill>
          <p:spPr>
            <a:xfrm>
              <a:off x="6931080" y="49561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56"/>
            <a:stretch/>
          </p:blipFill>
          <p:spPr>
            <a:xfrm>
              <a:off x="7280280" y="521496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57"/>
            <a:stretch/>
          </p:blipFill>
          <p:spPr>
            <a:xfrm>
              <a:off x="5943600" y="372600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58"/>
            <a:stretch/>
          </p:blipFill>
          <p:spPr>
            <a:xfrm>
              <a:off x="6292800" y="398448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59"/>
            <a:stretch/>
          </p:blipFill>
          <p:spPr>
            <a:xfrm>
              <a:off x="6642000" y="42433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60"/>
            <a:stretch/>
          </p:blipFill>
          <p:spPr>
            <a:xfrm>
              <a:off x="6991200" y="4502160"/>
              <a:ext cx="2257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61"/>
            <a:stretch/>
          </p:blipFill>
          <p:spPr>
            <a:xfrm>
              <a:off x="7340760" y="476100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62"/>
            <a:stretch/>
          </p:blipFill>
          <p:spPr>
            <a:xfrm>
              <a:off x="7689960" y="501984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63"/>
            <a:stretch/>
          </p:blipFill>
          <p:spPr>
            <a:xfrm>
              <a:off x="6353280" y="35305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64"/>
            <a:stretch/>
          </p:blipFill>
          <p:spPr>
            <a:xfrm>
              <a:off x="6702480" y="378936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65"/>
            <a:stretch/>
          </p:blipFill>
          <p:spPr>
            <a:xfrm>
              <a:off x="7051680" y="404820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66"/>
            <a:stretch/>
          </p:blipFill>
          <p:spPr>
            <a:xfrm>
              <a:off x="7400880" y="430704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67"/>
            <a:stretch/>
          </p:blipFill>
          <p:spPr>
            <a:xfrm>
              <a:off x="7750080" y="45655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68"/>
            <a:stretch/>
          </p:blipFill>
          <p:spPr>
            <a:xfrm>
              <a:off x="8099280" y="4824360"/>
              <a:ext cx="2257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69"/>
            <a:stretch/>
          </p:blipFill>
          <p:spPr>
            <a:xfrm>
              <a:off x="6762600" y="3335400"/>
              <a:ext cx="2257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70"/>
            <a:stretch/>
          </p:blipFill>
          <p:spPr>
            <a:xfrm>
              <a:off x="7112160" y="359424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1"/>
            <a:stretch/>
          </p:blipFill>
          <p:spPr>
            <a:xfrm>
              <a:off x="7461360" y="38527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72"/>
            <a:stretch/>
          </p:blipFill>
          <p:spPr>
            <a:xfrm>
              <a:off x="7810560" y="411156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73"/>
            <a:stretch/>
          </p:blipFill>
          <p:spPr>
            <a:xfrm>
              <a:off x="8159760" y="437040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74"/>
            <a:stretch/>
          </p:blipFill>
          <p:spPr>
            <a:xfrm>
              <a:off x="8508960" y="462924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75"/>
            <a:stretch/>
          </p:blipFill>
          <p:spPr>
            <a:xfrm>
              <a:off x="7172280" y="313992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76"/>
            <a:stretch/>
          </p:blipFill>
          <p:spPr>
            <a:xfrm>
              <a:off x="7521480" y="339876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77"/>
            <a:stretch/>
          </p:blipFill>
          <p:spPr>
            <a:xfrm>
              <a:off x="7870680" y="3657600"/>
              <a:ext cx="22572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78"/>
            <a:stretch/>
          </p:blipFill>
          <p:spPr>
            <a:xfrm>
              <a:off x="8220240" y="391644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79"/>
            <a:stretch/>
          </p:blipFill>
          <p:spPr>
            <a:xfrm>
              <a:off x="8569440" y="417528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80"/>
            <a:stretch/>
          </p:blipFill>
          <p:spPr>
            <a:xfrm>
              <a:off x="7581960" y="294480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81"/>
            <a:stretch/>
          </p:blipFill>
          <p:spPr>
            <a:xfrm>
              <a:off x="7931160" y="3203640"/>
              <a:ext cx="225360" cy="4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82"/>
            <a:stretch/>
          </p:blipFill>
          <p:spPr>
            <a:xfrm>
              <a:off x="8280360" y="3462480"/>
              <a:ext cx="2253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83"/>
            <a:stretch/>
          </p:blipFill>
          <p:spPr>
            <a:xfrm>
              <a:off x="8629560" y="3720960"/>
              <a:ext cx="225360" cy="46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5" name=""/>
          <p:cNvGrpSpPr/>
          <p:nvPr/>
        </p:nvGrpSpPr>
        <p:grpSpPr>
          <a:xfrm>
            <a:off x="1482120" y="2676600"/>
            <a:ext cx="6657120" cy="4320720"/>
            <a:chOff x="1482120" y="2676600"/>
            <a:chExt cx="6657120" cy="4320720"/>
          </a:xfrm>
        </p:grpSpPr>
        <p:sp>
          <p:nvSpPr>
            <p:cNvPr id="246" name=""/>
            <p:cNvSpPr/>
            <p:nvPr/>
          </p:nvSpPr>
          <p:spPr>
            <a:xfrm>
              <a:off x="2737440" y="345456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71760" y="290196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20347200">
              <a:off x="1695240" y="2977920"/>
              <a:ext cx="533160" cy="1295280"/>
            </a:xfrm>
            <a:prstGeom prst="downArrow">
              <a:avLst>
                <a:gd name="adj1" fmla="val 50000"/>
                <a:gd name="adj2" fmla="val 60736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1560" y="275256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05720" y="2676600"/>
              <a:ext cx="533520" cy="1295280"/>
            </a:xfrm>
            <a:prstGeom prst="downArrow">
              <a:avLst>
                <a:gd name="adj1" fmla="val 50000"/>
                <a:gd name="adj2" fmla="val 60695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20347200">
              <a:off x="5928840" y="275220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2845200">
              <a:off x="6987600" y="533376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2845200">
              <a:off x="2512440" y="5714640"/>
              <a:ext cx="533520" cy="1295640"/>
            </a:xfrm>
            <a:prstGeom prst="downArrow">
              <a:avLst>
                <a:gd name="adj1" fmla="val 50000"/>
                <a:gd name="adj2" fmla="val 60712"/>
              </a:avLst>
            </a:prstGeom>
            <a:solidFill>
              <a:srgbClr val="ffff66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840" y="4324320"/>
              <a:ext cx="117900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e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lan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26720" y="6126120"/>
              <a:ext cx="397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vesting removes Carb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054080" y="1112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19360" y="1282680"/>
            <a:ext cx="6521400" cy="1166400"/>
          </a:xfrm>
          <a:prstGeom prst="rect">
            <a:avLst/>
          </a:prstGeom>
          <a:solidFill>
            <a:srgbClr val="99cc0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long te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v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atmosph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released into 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oods and Softwo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le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high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dark in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le-like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l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light in 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62040" y="5334120"/>
            <a:ext cx="4172040" cy="14983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ative Australian h’wd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untain 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rown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potted g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ar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0600" y="5346720"/>
            <a:ext cx="3811320" cy="14986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mmon Australian s’wd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diata 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ypress 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op 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ouglas f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66840" y="2868480"/>
            <a:ext cx="3359160" cy="2422800"/>
            <a:chOff x="366840" y="2868480"/>
            <a:chExt cx="3359160" cy="242280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366840" y="3171960"/>
              <a:ext cx="2178000" cy="181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1996920" y="2868480"/>
              <a:ext cx="1729080" cy="2422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266" name=""/>
          <p:cNvGrpSpPr/>
          <p:nvPr/>
        </p:nvGrpSpPr>
        <p:grpSpPr>
          <a:xfrm>
            <a:off x="5294160" y="2922480"/>
            <a:ext cx="3727440" cy="2374920"/>
            <a:chOff x="5294160" y="2922480"/>
            <a:chExt cx="3727440" cy="2374920"/>
          </a:xfrm>
        </p:grpSpPr>
        <p:pic>
          <p:nvPicPr>
            <p:cNvPr id="267" name="" descr=""/>
            <p:cNvPicPr/>
            <p:nvPr/>
          </p:nvPicPr>
          <p:blipFill>
            <a:blip r:embed="rId3"/>
            <a:srcRect l="0" t="6812" r="0" b="11163"/>
            <a:stretch/>
          </p:blipFill>
          <p:spPr>
            <a:xfrm>
              <a:off x="5905440" y="3510000"/>
              <a:ext cx="3116160" cy="1471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68" name="" descr=""/>
            <p:cNvPicPr/>
            <p:nvPr/>
          </p:nvPicPr>
          <p:blipFill>
            <a:blip r:embed="rId4"/>
            <a:stretch/>
          </p:blipFill>
          <p:spPr>
            <a:xfrm>
              <a:off x="5294160" y="2922480"/>
              <a:ext cx="1727280" cy="237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52560" y="1542600"/>
            <a:ext cx="777240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ood on outside of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st wood on inside of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est wood on 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eter largest at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ing (layer)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35680" y="1174680"/>
            <a:ext cx="2924280" cy="5683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121520" y="5407200"/>
            <a:ext cx="522360" cy="1403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110360" y="4052880"/>
            <a:ext cx="496800" cy="28051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7088040" y="2647800"/>
            <a:ext cx="522360" cy="42102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6757920" y="1243080"/>
            <a:ext cx="1116000" cy="5614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6781680" y="-162000"/>
            <a:ext cx="1092240" cy="7020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flipV="1">
            <a:off x="5067360" y="5981040"/>
            <a:ext cx="2076480" cy="399960"/>
          </a:xfrm>
          <a:custGeom>
            <a:avLst/>
            <a:gdLst/>
            <a:ahLst/>
            <a:rect l="l" t="t" r="r" b="b"/>
            <a:pathLst>
              <a:path w="1740" h="672">
                <a:moveTo>
                  <a:pt x="0" y="672"/>
                </a:moveTo>
                <a:lnTo>
                  <a:pt x="1128" y="672"/>
                </a:lnTo>
                <a:lnTo>
                  <a:pt x="174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657600" y="3143160"/>
            <a:ext cx="3695760" cy="2038320"/>
            <a:chOff x="3657600" y="3143160"/>
            <a:chExt cx="3695760" cy="2038320"/>
          </a:xfrm>
        </p:grpSpPr>
        <p:sp>
          <p:nvSpPr>
            <p:cNvPr id="279" name=""/>
            <p:cNvSpPr/>
            <p:nvPr/>
          </p:nvSpPr>
          <p:spPr>
            <a:xfrm>
              <a:off x="4343400" y="3790800"/>
              <a:ext cx="2762280" cy="106704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19640" y="4857840"/>
              <a:ext cx="2133720" cy="32364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7600" y="3143160"/>
              <a:ext cx="3581280" cy="127656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857840" y="2171520"/>
            <a:ext cx="2476440" cy="4533840"/>
            <a:chOff x="4857840" y="2171520"/>
            <a:chExt cx="2476440" cy="4533840"/>
          </a:xfrm>
        </p:grpSpPr>
        <p:sp>
          <p:nvSpPr>
            <p:cNvPr id="283" name=""/>
            <p:cNvSpPr/>
            <p:nvPr/>
          </p:nvSpPr>
          <p:spPr>
            <a:xfrm flipV="1">
              <a:off x="4857840" y="3314160"/>
              <a:ext cx="2343240" cy="339084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4896000" y="2913840"/>
              <a:ext cx="2342880" cy="339084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029200" y="2590200"/>
              <a:ext cx="2152800" cy="163836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295960" y="2171160"/>
              <a:ext cx="2038320" cy="1618920"/>
            </a:xfrm>
            <a:custGeom>
              <a:avLst/>
              <a:gdLst/>
              <a:ahLst/>
              <a:rect l="l" t="t" r="r" b="b"/>
              <a:pathLst>
                <a:path w="1740" h="672">
                  <a:moveTo>
                    <a:pt x="0" y="672"/>
                  </a:moveTo>
                  <a:lnTo>
                    <a:pt x="1128" y="672"/>
                  </a:lnTo>
                  <a:lnTo>
                    <a:pt x="1740" y="0"/>
                  </a:lnTo>
                </a:path>
              </a:pathLst>
            </a:custGeom>
            <a:noFill/>
            <a:ln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6"/>
          <a:srcRect l="0" t="0" r="6963" b="5085"/>
          <a:stretch/>
        </p:blipFill>
        <p:spPr>
          <a:xfrm>
            <a:off x="488880" y="88920"/>
            <a:ext cx="1446120" cy="1476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936720" y="3429000"/>
            <a:ext cx="77724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in forest grows towa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nk stra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branche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ing small knots in 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71640" y="5516640"/>
            <a:ext cx="77724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k protects wood from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sheds bark each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2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ion of 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35680" y="1174680"/>
            <a:ext cx="2924280" cy="5683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277040" y="2430360"/>
            <a:ext cx="381240" cy="366732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734760" y="2344680"/>
            <a:ext cx="6809040" cy="1084320"/>
            <a:chOff x="734760" y="2344680"/>
            <a:chExt cx="6809040" cy="1084320"/>
          </a:xfrm>
        </p:grpSpPr>
        <p:sp>
          <p:nvSpPr>
            <p:cNvPr id="294" name=""/>
            <p:cNvSpPr/>
            <p:nvPr/>
          </p:nvSpPr>
          <p:spPr>
            <a:xfrm>
              <a:off x="734760" y="2344680"/>
              <a:ext cx="43092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pling - fibrous juvenile w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comes pi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81480" y="2552760"/>
              <a:ext cx="236232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050240" y="1855800"/>
            <a:ext cx="917280" cy="428796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709920" y="2287440"/>
            <a:ext cx="7032240" cy="4098600"/>
            <a:chOff x="709920" y="2287440"/>
            <a:chExt cx="7032240" cy="4098600"/>
          </a:xfrm>
        </p:grpSpPr>
        <p:sp>
          <p:nvSpPr>
            <p:cNvPr id="298" name=""/>
            <p:cNvSpPr/>
            <p:nvPr/>
          </p:nvSpPr>
          <p:spPr>
            <a:xfrm>
              <a:off x="722880" y="3068640"/>
              <a:ext cx="35823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mbium - growth ce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od cells created on in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rk cells created on out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29280" y="3276720"/>
              <a:ext cx="306684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3160" y="4211640"/>
              <a:ext cx="3355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rk - protects w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bark made continual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rk falls off each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8120" y="4419720"/>
              <a:ext cx="291456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9920" y="5316480"/>
              <a:ext cx="46429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ood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wood cells on out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est wood takes nutrients to le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51120" y="5524560"/>
              <a:ext cx="4991040" cy="30492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57760" y="2552760"/>
              <a:ext cx="188604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3880" y="2287440"/>
              <a:ext cx="48625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th - the start of growth in the t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original sap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6919920" y="1824120"/>
            <a:ext cx="1265400" cy="4357440"/>
          </a:xfrm>
          <a:prstGeom prst="rect">
            <a:avLst/>
          </a:prstGeom>
          <a:ln w="0">
            <a:noFill/>
          </a:ln>
        </p:spPr>
      </p:pic>
      <p:grpSp>
        <p:nvGrpSpPr>
          <p:cNvPr id="307" name=""/>
          <p:cNvGrpSpPr/>
          <p:nvPr/>
        </p:nvGrpSpPr>
        <p:grpSpPr>
          <a:xfrm>
            <a:off x="709920" y="2287440"/>
            <a:ext cx="7299000" cy="4098600"/>
            <a:chOff x="709920" y="2287440"/>
            <a:chExt cx="7299000" cy="4098600"/>
          </a:xfrm>
        </p:grpSpPr>
        <p:sp>
          <p:nvSpPr>
            <p:cNvPr id="308" name=""/>
            <p:cNvSpPr/>
            <p:nvPr/>
          </p:nvSpPr>
          <p:spPr>
            <a:xfrm>
              <a:off x="722880" y="3068640"/>
              <a:ext cx="35823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mbium - growth ce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od cells created on in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rk cells created on out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29280" y="3276720"/>
              <a:ext cx="299052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" y="4211640"/>
              <a:ext cx="4173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pwood - newest w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n outside of tree (~ 1-3 c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kes nutrients from root to lea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218120" y="4419720"/>
              <a:ext cx="379080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1000" y="5316480"/>
              <a:ext cx="41475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artwood - older w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ells closed - can’t pass nutrient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orage for waste - extractiv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65480" y="5543640"/>
              <a:ext cx="3733920" cy="2858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57760" y="2552760"/>
              <a:ext cx="188604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3880" y="2287440"/>
              <a:ext cx="48625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th - the start of growth in the t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original sap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734160" y="1579680"/>
            <a:ext cx="1592280" cy="475452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692280" y="2305080"/>
            <a:ext cx="7488000" cy="4098600"/>
            <a:chOff x="692280" y="2305080"/>
            <a:chExt cx="7488000" cy="4098600"/>
          </a:xfrm>
        </p:grpSpPr>
        <p:sp>
          <p:nvSpPr>
            <p:cNvPr id="318" name=""/>
            <p:cNvSpPr/>
            <p:nvPr/>
          </p:nvSpPr>
          <p:spPr>
            <a:xfrm>
              <a:off x="703800" y="3086280"/>
              <a:ext cx="35823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mbium - growth cel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od cells created on in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ark cells created on out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0200" y="3294360"/>
              <a:ext cx="285732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2280" y="4229280"/>
              <a:ext cx="42451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pwood - newest w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wood has thin cell wa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pwood most effective on out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99040" y="4437360"/>
              <a:ext cx="398124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2280" y="5334120"/>
              <a:ext cx="424836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eartwood - older wo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ldest sapwood becomes clogge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heartwood added on outs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03640" y="5542200"/>
              <a:ext cx="3905280" cy="30492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680" y="2570400"/>
              <a:ext cx="1886040" cy="876240"/>
            </a:xfrm>
            <a:custGeom>
              <a:avLst/>
              <a:gdLst/>
              <a:ahLst/>
              <a:rect l="l" t="t" r="r" b="b"/>
              <a:pathLst>
                <a:path w="1488" h="552">
                  <a:moveTo>
                    <a:pt x="0" y="0"/>
                  </a:moveTo>
                  <a:lnTo>
                    <a:pt x="612" y="0"/>
                  </a:lnTo>
                  <a:lnTo>
                    <a:pt x="1488" y="5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800" y="2305080"/>
              <a:ext cx="48625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th - the start of growth in the tre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original sap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5"/>
          <a:srcRect l="0" t="0" r="6963" b="5085"/>
          <a:stretch/>
        </p:blipFill>
        <p:spPr>
          <a:xfrm>
            <a:off x="298440" y="88920"/>
            <a:ext cx="14461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5" dur="1" fill="hold"/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th 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360" y="151920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w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th at beginning of growing s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, large cells - lighter 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303960" y="1492200"/>
            <a:ext cx="26226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0" name=""/>
          <p:cNvSpPr/>
          <p:nvPr/>
        </p:nvSpPr>
        <p:spPr>
          <a:xfrm>
            <a:off x="114480" y="2637000"/>
            <a:ext cx="77724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 w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er growth, often limited by lack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ck small cells - darker 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the growth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12680" y="3457440"/>
            <a:ext cx="8886960" cy="2291040"/>
            <a:chOff x="112680" y="3457440"/>
            <a:chExt cx="8886960" cy="2291040"/>
          </a:xfrm>
        </p:grpSpPr>
        <p:pic>
          <p:nvPicPr>
            <p:cNvPr id="332" name="" descr=""/>
            <p:cNvPicPr/>
            <p:nvPr/>
          </p:nvPicPr>
          <p:blipFill>
            <a:blip r:embed="rId2"/>
            <a:srcRect l="0" t="0" r="0" b="6136"/>
            <a:stretch/>
          </p:blipFill>
          <p:spPr>
            <a:xfrm>
              <a:off x="5081760" y="3457440"/>
              <a:ext cx="3917880" cy="1292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3" name=""/>
            <p:cNvSpPr/>
            <p:nvPr/>
          </p:nvSpPr>
          <p:spPr>
            <a:xfrm>
              <a:off x="112680" y="4308480"/>
              <a:ext cx="77724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rally one ring pe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me climates may have more than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ne growth season per 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res or disease may produce an extra 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163440" y="4865760"/>
            <a:ext cx="8102520" cy="1928880"/>
            <a:chOff x="163440" y="4865760"/>
            <a:chExt cx="8102520" cy="1928880"/>
          </a:xfrm>
        </p:grpSpPr>
        <p:pic>
          <p:nvPicPr>
            <p:cNvPr id="335" name="" descr=""/>
            <p:cNvPicPr/>
            <p:nvPr/>
          </p:nvPicPr>
          <p:blipFill>
            <a:blip r:embed="rId3"/>
            <a:stretch/>
          </p:blipFill>
          <p:spPr>
            <a:xfrm>
              <a:off x="5829480" y="4865760"/>
              <a:ext cx="2436480" cy="1915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6" name=""/>
            <p:cNvSpPr/>
            <p:nvPr/>
          </p:nvSpPr>
          <p:spPr>
            <a:xfrm>
              <a:off x="163440" y="5972040"/>
              <a:ext cx="77724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owth rings give texture an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igure to wo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1 -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716040" y="1787400"/>
            <a:ext cx="2479680" cy="24814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657520" y="1371600"/>
            <a:ext cx="26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e t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ood with ba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00360" y="1866960"/>
            <a:ext cx="5372280" cy="3550320"/>
            <a:chOff x="3600360" y="1866960"/>
            <a:chExt cx="5372280" cy="3550320"/>
          </a:xfrm>
        </p:grpSpPr>
        <p:grpSp>
          <p:nvGrpSpPr>
            <p:cNvPr id="341" name=""/>
            <p:cNvGrpSpPr/>
            <p:nvPr/>
          </p:nvGrpSpPr>
          <p:grpSpPr>
            <a:xfrm>
              <a:off x="3600360" y="1866960"/>
              <a:ext cx="4057920" cy="2305080"/>
              <a:chOff x="3600360" y="1866960"/>
              <a:chExt cx="4057920" cy="2305080"/>
            </a:xfrm>
          </p:grpSpPr>
          <p:sp>
            <p:nvSpPr>
              <p:cNvPr id="342" name=""/>
              <p:cNvSpPr/>
              <p:nvPr/>
            </p:nvSpPr>
            <p:spPr>
              <a:xfrm>
                <a:off x="5200560" y="1866960"/>
                <a:ext cx="2457720" cy="23050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600360" y="2952720"/>
                <a:ext cx="1314720" cy="380880"/>
              </a:xfrm>
              <a:prstGeom prst="rightArrow">
                <a:avLst>
                  <a:gd name="adj1" fmla="val 50000"/>
                  <a:gd name="adj2" fmla="val 862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03880" y="1893960"/>
                <a:ext cx="2232000" cy="2232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5" name=""/>
            <p:cNvSpPr/>
            <p:nvPr/>
          </p:nvSpPr>
          <p:spPr>
            <a:xfrm>
              <a:off x="6675120" y="4226040"/>
              <a:ext cx="2297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-barked lo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sapwood &amp;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eartwoo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779200" y="3758760"/>
            <a:ext cx="6363000" cy="3099240"/>
            <a:chOff x="2779200" y="3758760"/>
            <a:chExt cx="6363000" cy="3099240"/>
          </a:xfrm>
        </p:grpSpPr>
        <p:sp>
          <p:nvSpPr>
            <p:cNvPr id="347" name=""/>
            <p:cNvSpPr/>
            <p:nvPr/>
          </p:nvSpPr>
          <p:spPr>
            <a:xfrm>
              <a:off x="3619440" y="4552920"/>
              <a:ext cx="2457360" cy="23050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3"/>
            <a:stretch/>
          </p:blipFill>
          <p:spPr>
            <a:xfrm>
              <a:off x="3784680" y="4749840"/>
              <a:ext cx="210816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 rot="2211600">
              <a:off x="2762280" y="4114800"/>
              <a:ext cx="1314360" cy="380880"/>
            </a:xfrm>
            <a:prstGeom prst="rightArrow">
              <a:avLst>
                <a:gd name="adj1" fmla="val 50000"/>
                <a:gd name="adj2" fmla="val 86271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84800" y="5905440"/>
              <a:ext cx="29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aped log (som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apwood remove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41280" y="5749920"/>
            <a:ext cx="2585520" cy="8254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 prepa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in 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02:34:44Z</dcterms:created>
  <dc:creator>gcheetham</dc:creator>
  <dc:description/>
  <dc:language>en-US</dc:language>
  <cp:lastModifiedBy>gcheetham</cp:lastModifiedBy>
  <dcterms:modified xsi:type="dcterms:W3CDTF">2005-03-13T20:55:25Z</dcterms:modified>
  <cp:revision>3</cp:revision>
  <dc:subject/>
  <dc:title>Timber - the Material</dc:title>
</cp:coreProperties>
</file>